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D29-D00E-4F3D-BDE6-1A1595D8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582912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240520"/>
            <a:ext cx="582912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440-9273-44D1-A88C-D0BE49B2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240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240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676-2739-4F29-A641-9E8DA311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387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387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240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240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240520"/>
            <a:ext cx="187668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E71-F1D5-42EC-8C86-49BC65B7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38752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085-71E1-4718-AF60-95E62F02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887-9BA7-42E9-8259-7A5564D7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284436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387520"/>
            <a:ext cx="284436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1CF-00FC-4E95-A991-D88E142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F59-DF0B-4443-A7DD-8568FB6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533520"/>
            <a:ext cx="582912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608-ECB8-4257-BF63-E20DFBC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387520"/>
            <a:ext cx="284436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240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89E-7159-4D94-8999-FE8F904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284436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240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65D-9697-4486-AC31-312B350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387520"/>
            <a:ext cx="284436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240520"/>
            <a:ext cx="5829120" cy="26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BBB-A210-443D-9FE4-1836239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53352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38752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5327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5327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5327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16F-0C65-484A-9978-3F6A983A2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95200" y="781200"/>
            <a:ext cx="248616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2600" y="124920"/>
            <a:ext cx="582912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Verdana"/>
                <a:ea typeface="HY신명조"/>
              </a:rPr>
              <a:t>논문 모집 안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000" y="2503440"/>
            <a:ext cx="3219480" cy="207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그간 국내외적으로 데이터마이닝 분야는 많은 연구결과 및 성공사례를 바탕으로 중요한 정보 및 경영기술로 자리 매김해 오고 있습니다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.  2006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년 춘계학술대회를  한국정보산업연합회 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CRM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협의회와 공동으로 성공적으로 개최한 데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이어  학술적이고 전문적인 연구및 사례발표를 중심으로 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2006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년 추계학술대회를 개최하고자 합니다</a:t>
            </a:r>
            <a:r>
              <a:rPr b="0" lang="ko-KR" sz="1000" spc="-1" strike="noStrike">
                <a:solidFill>
                  <a:srgbClr val="000000"/>
                </a:solidFill>
                <a:latin typeface="HY신명조"/>
                <a:ea typeface="HY신명조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특히 이번 추계학술대회에서는 데이터마이닝의 국내외 최근 연구동향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산업적 응용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발전방향 등에 대하여 학계와 관련 산업계 전문가들을 모신 토론의 장을 마련하고자 합니다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데이타마이닝에 관심을 갖고 계신 학계 및 관련 산업계 여러 분들의 많은 참여를 부탁 드립니다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9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월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14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한국데이터마이닝학회 회장  이영조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서울대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추계학술대회  조직위원장  권영식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학술위원장  이창환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2227320"/>
            <a:ext cx="320040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HY신명조"/>
                <a:ea typeface="HY신명조"/>
              </a:rPr>
              <a:t>논문 모집 분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데이터마이닝과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CRM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관련 기술 및 활용사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제조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마케팅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금융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신용평가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통신 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Web &amp;  Text Min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Novel Data Mining Algorithms 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Integration of DW, OLAP and Data Min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Models and Framework of the KDD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Bioinformatic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Discovery Methods based on Decision      Trees, Neural Networks, Association Rule, Genetic Programming, Inductive Logic programming, Rough Sets, and other approach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Data and dimensionality reduction, including data selection and efficient sampl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Algorithms for Mining Spatial, Textual, Web and other Complex Dat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Multi-agent, Multi-task Data Mining syste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Security and Privacy Issues in Data Min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Applications in RFID/Ubiquitous technolog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HY신명조"/>
              </a:rPr>
              <a:t>* </a:t>
            </a: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HY신명조"/>
              </a:rPr>
              <a:t>논문의 경우 상기 주제에 제한될 필요는 없습니다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HY신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19240" y="7042320"/>
            <a:ext cx="31050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논문 및 튜토리얼은 초록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(abstract), PPT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발표자료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full paper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형태로 제출바랍니다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. 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발표는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분 또는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40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분발표 분량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PPT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제출은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e-mail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을 이용해 주시기 바랍니다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5533920"/>
            <a:ext cx="327636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                  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HY신명조"/>
              </a:rPr>
              <a:t>주요 일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논문 및 튜토리얼 제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10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16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▶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발표논문 선정 통보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: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10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일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22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0" y="8305920"/>
            <a:ext cx="1887840" cy="595080"/>
            <a:chOff x="2286000" y="8305920"/>
            <a:chExt cx="1887840" cy="595080"/>
          </a:xfrm>
        </p:grpSpPr>
        <p:sp>
          <p:nvSpPr>
            <p:cNvPr id="48" name=""/>
            <p:cNvSpPr/>
            <p:nvPr/>
          </p:nvSpPr>
          <p:spPr>
            <a:xfrm>
              <a:off x="2464920" y="8305920"/>
              <a:ext cx="1708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33"/>
                  </a:solidFill>
                  <a:latin typeface="Verdana"/>
                  <a:ea typeface="HY신명조"/>
                </a:rPr>
                <a:t>한국데이터마이닝학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0" y="85345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438360" y="2209680"/>
            <a:ext cx="0" cy="59454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7040" y="754200"/>
            <a:ext cx="6400800" cy="143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cc33"/>
                </a:solidFill>
                <a:latin typeface="Verdana"/>
                <a:ea typeface="HY신명조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Verdana"/>
                <a:ea typeface="HY신명조"/>
              </a:rPr>
              <a:t>한국데이터마이닝학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Verdana"/>
                <a:ea typeface="HY신명조"/>
              </a:rPr>
              <a:t>2006</a:t>
            </a:r>
            <a:r>
              <a:rPr b="1" lang="ko-KR" sz="1200" spc="-1" strike="noStrike">
                <a:solidFill>
                  <a:srgbClr val="5f5f5f"/>
                </a:solidFill>
                <a:latin typeface="Verdana"/>
                <a:ea typeface="HY신명조"/>
              </a:rPr>
              <a:t>년도 추계학술대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5f5f5f"/>
                </a:solidFill>
                <a:latin typeface="Verdana"/>
                <a:ea typeface="HY신명조"/>
              </a:rPr>
              <a:t>데이터마이닝</a:t>
            </a:r>
            <a:r>
              <a:rPr b="1" lang="ko-KR" sz="2400" spc="-1" strike="noStrike">
                <a:solidFill>
                  <a:srgbClr val="5f5f5f"/>
                </a:solidFill>
                <a:latin typeface="Verdana"/>
                <a:ea typeface="HY신명조"/>
              </a:rPr>
              <a:t>:</a:t>
            </a:r>
            <a:r>
              <a:rPr b="1" lang="ko-KR" sz="2400" spc="-1" strike="noStrike">
                <a:solidFill>
                  <a:srgbClr val="5f5f5f"/>
                </a:solidFill>
                <a:latin typeface="Verdana"/>
                <a:ea typeface="HY신명조"/>
              </a:rPr>
              <a:t>현재와 미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학교 만해관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1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월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1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일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토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47680" y="2362320"/>
            <a:ext cx="104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228760" y="2362320"/>
            <a:ext cx="104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5700600"/>
            <a:ext cx="104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173320" y="5700600"/>
            <a:ext cx="11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7816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465280" y="6781680"/>
            <a:ext cx="824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362320"/>
            <a:ext cx="89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421280" y="21985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초대의 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714840" y="6638760"/>
            <a:ext cx="2971800" cy="276480"/>
            <a:chOff x="3714840" y="6638760"/>
            <a:chExt cx="2971800" cy="276480"/>
          </a:xfrm>
        </p:grpSpPr>
        <p:sp>
          <p:nvSpPr>
            <p:cNvPr id="61" name=""/>
            <p:cNvSpPr/>
            <p:nvPr/>
          </p:nvSpPr>
          <p:spPr>
            <a:xfrm>
              <a:off x="4827600" y="663876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Verdana"/>
                  <a:ea typeface="HY신명조"/>
                </a:rPr>
                <a:t>논문 제출처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14840" y="6783480"/>
              <a:ext cx="96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26160" y="6774480"/>
              <a:ext cx="96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745240" y="2362320"/>
            <a:ext cx="89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968760" y="6640560"/>
            <a:ext cx="117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HY신명조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HY신명조"/>
              </a:rPr>
              <a:t>논문 발표 및 제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687840" y="7042320"/>
            <a:ext cx="2952720" cy="8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7042320"/>
            <a:ext cx="295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학교 정보통신공학과 이창환 교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전화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: 02-2260-38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팩스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:  02-2285-334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HY신명조"/>
              </a:rPr>
              <a:t>e-mail :chlee@dongguk.ed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신명조"/>
              </a:rPr>
              <a:t>SAS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HY신명조"/>
              </a:rPr>
              <a:t>우수 학생 논문 선정안내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신명조"/>
              </a:rPr>
              <a:t>SA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HY신명조"/>
              </a:rPr>
              <a:t>Student Pap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3360" y="1967040"/>
            <a:ext cx="5651280" cy="257148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한국데이터마이닝학회에서는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추계학술대회에 제출된 학생논문 중 우수논문을 선정하여 소정의 상금을 수여할 예정입니다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많은 관심과 참여 부탁 드립니다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최우수 논문상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우수 논문상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2006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한국데이터마이닝학회 회장     이영조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서울대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추계학술대회  조직위원장     권영식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              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학술위원장     이창환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03360" y="1600200"/>
            <a:ext cx="5651280" cy="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03360" y="5246280"/>
            <a:ext cx="5651280" cy="101304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심사대상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학생이 제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저자인 논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주제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데이터마이닝 관련 전 분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심사결과발표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학회 당일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(2006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1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월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11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일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779560" y="476784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세부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03360" y="4952880"/>
            <a:ext cx="239400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841920" y="4952880"/>
            <a:ext cx="2393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529000" y="6261480"/>
            <a:ext cx="18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논문제출 및 연락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22440" y="6478560"/>
            <a:ext cx="1925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309920" y="6467400"/>
            <a:ext cx="1925640" cy="0"/>
          </a:xfrm>
          <a:prstGeom prst="line">
            <a:avLst/>
          </a:prstGeom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6687720"/>
            <a:ext cx="5651280" cy="111672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동국대학교 정보통신공학과 이창환 교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전화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: 02-2260-380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팩스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: 02-2285-334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HY신명조"/>
              </a:rPr>
              <a:t>e-mail :chlee@dongguk.ed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381400" y="7981920"/>
            <a:ext cx="1911600" cy="595080"/>
            <a:chOff x="2381400" y="7981920"/>
            <a:chExt cx="1911600" cy="595080"/>
          </a:xfrm>
        </p:grpSpPr>
        <p:sp>
          <p:nvSpPr>
            <p:cNvPr id="80" name=""/>
            <p:cNvSpPr/>
            <p:nvPr/>
          </p:nvSpPr>
          <p:spPr>
            <a:xfrm>
              <a:off x="2584080" y="7981920"/>
              <a:ext cx="1708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333333"/>
                  </a:solidFill>
                  <a:latin typeface="Verdana"/>
                  <a:ea typeface="HY신명조"/>
                </a:rPr>
                <a:t>한국데이터마이닝학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1400" y="82105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Soung Ryong Yee</dc:creator>
  <dc:description/>
  <dc:language>en-US</dc:language>
  <cp:lastModifiedBy>user</cp:lastModifiedBy>
  <cp:lastPrinted>1998-03-04T13:01:14Z</cp:lastPrinted>
  <dcterms:modified xsi:type="dcterms:W3CDTF">2006-10-09T04:08:43Z</dcterms:modified>
  <cp:revision>223</cp:revision>
  <dc:subject/>
  <dc:title>Call for Papers</dc:title>
</cp:coreProperties>
</file>