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665-738B-4D59-AA91-6B527821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AE1A-86BA-4143-9BD0-1799622D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8AF-049B-4C4E-92AE-F06212AD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0EF-8C7C-4819-ADC2-023CF7A1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B6A-E73A-493B-9C8E-47D207F5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B77-EBCD-4643-BA80-EC3BE823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9D9-C1F2-461B-8C88-41C40172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AC2-7308-469F-A954-70B0484B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7B7-E44F-4A2F-A3E1-7D09BA7D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4C5-6CA6-4794-AF3C-136981BF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FC9-3545-42DE-822C-398A4627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115-B8C4-413A-BB54-5B396A0C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81BD-5FB0-41EA-BFDC-E15967ADB6C2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609480"/>
            <a:ext cx="7467480" cy="5732640"/>
            <a:chOff x="990720" y="609480"/>
            <a:chExt cx="7467480" cy="5732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990720" y="609480"/>
              <a:ext cx="7467480" cy="57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495680" y="32767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95280" y="1143000"/>
              <a:ext cx="243864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굴림"/>
                </a:rPr>
                <a:t>한성대 에듀센터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8120" y="1676520"/>
              <a:ext cx="13716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91120" y="2971800"/>
              <a:ext cx="838080" cy="914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609480"/>
            <a:ext cx="8991720" cy="5769000"/>
            <a:chOff x="152280" y="609480"/>
            <a:chExt cx="8991720" cy="5769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609480"/>
              <a:ext cx="8991720" cy="57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8604800">
              <a:off x="3429000" y="2819520"/>
              <a:ext cx="137160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9365600">
              <a:off x="3504960" y="3428640"/>
              <a:ext cx="53316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43400" y="3886200"/>
              <a:ext cx="1828800" cy="246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ffffff"/>
                  </a:solidFill>
                  <a:latin typeface="굴림"/>
                </a:rPr>
                <a:t>폴리플렉스 판타지움</a:t>
              </a:r>
              <a:r>
                <a:rPr b="1" lang="ko-KR" sz="10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ko-KR" sz="1000" spc="-1" strike="noStrike">
                  <a:solidFill>
                    <a:srgbClr val="ffffff"/>
                  </a:solidFill>
                  <a:latin typeface="굴림"/>
                </a:rPr>
                <a:t>영화관</a:t>
              </a:r>
              <a:r>
                <a:rPr b="1" lang="ko-KR" sz="1000" spc="-1" strike="noStrike">
                  <a:solidFill>
                    <a:srgbClr val="ffffff"/>
                  </a:solidFill>
                  <a:latin typeface="굴림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24280" y="1752480"/>
              <a:ext cx="2210040" cy="703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한성대 에듀센터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하나은행 빌딩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4190760" y="2286000"/>
              <a:ext cx="533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114440" y="411480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43800" y="3581280"/>
              <a:ext cx="15228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962520" y="3581280"/>
              <a:ext cx="3581280" cy="1600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2971800" y="3733560"/>
              <a:ext cx="990720" cy="1447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971800" y="2590560"/>
              <a:ext cx="106668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38480" y="259092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2:56:01Z</dcterms:created>
  <dc:creator>김종욱</dc:creator>
  <dc:description/>
  <dc:language>en-US</dc:language>
  <cp:lastModifiedBy>seoul</cp:lastModifiedBy>
  <dcterms:modified xsi:type="dcterms:W3CDTF">2004-12-10T06:34:45Z</dcterms:modified>
  <cp:revision>1</cp:revision>
  <dc:subject/>
  <dc:title>PowerPoint 프레젠테이션</dc:title>
</cp:coreProperties>
</file>