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FD0-CAD5-4AD6-8067-8AD1FBC5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83C-AD34-4DB6-A8E7-CD127F6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6D4-8DB4-4672-9D38-B4BFF6CD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E6A-FE14-459E-9CE8-AFD7768D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4FC-3498-4BD1-9D57-0570EDC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94A-036B-4B29-96FF-FD432BAA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151-0C76-4E71-ABA7-0A4F3D71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B03-E937-4252-9FF1-100482AE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32D-37D1-4CB0-AB0C-AB370AA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370-F905-4223-97DF-5A3E42DE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EB8-4181-4119-9D8A-BE85EC0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6D9-6C58-4A7C-9B8C-83AFABE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830-4CE7-441B-A396-73AE9365871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609480"/>
            <a:ext cx="7467480" cy="5732640"/>
            <a:chOff x="990720" y="609480"/>
            <a:chExt cx="7467480" cy="5732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720" y="609480"/>
              <a:ext cx="7467480" cy="57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495680" y="3276720"/>
              <a:ext cx="228600" cy="30456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95280" y="1143000"/>
              <a:ext cx="243864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굴림"/>
                </a:rPr>
                <a:t>한성대 에듀센터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8120" y="167652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91120" y="2971800"/>
              <a:ext cx="838080" cy="91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609480"/>
            <a:ext cx="8991720" cy="5769000"/>
            <a:chOff x="152280" y="609480"/>
            <a:chExt cx="8991720" cy="5769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8991720" cy="57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8604800">
              <a:off x="3429000" y="2819520"/>
              <a:ext cx="137160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365600">
              <a:off x="3504960" y="3428640"/>
              <a:ext cx="53316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3400" y="3886200"/>
              <a:ext cx="1828800" cy="246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폴리플렉스 판타지움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영화관</a:t>
              </a:r>
              <a:r>
                <a:rPr b="1" lang="ko-KR" sz="10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4280" y="1752480"/>
              <a:ext cx="2210040" cy="703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한성대 에듀센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하나은행 빌딩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190760" y="228600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14440" y="41148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43800" y="3581280"/>
              <a:ext cx="15228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962520" y="3581280"/>
              <a:ext cx="3581280" cy="1600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971800" y="3733560"/>
              <a:ext cx="990720" cy="144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971800" y="2590560"/>
              <a:ext cx="106668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259092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2:56:01Z</dcterms:created>
  <dc:creator>김종욱</dc:creator>
  <dc:description/>
  <dc:language>en-US</dc:language>
  <cp:lastModifiedBy>seoul</cp:lastModifiedBy>
  <dcterms:modified xsi:type="dcterms:W3CDTF">2004-12-10T06:34:45Z</dcterms:modified>
  <cp:revision>1</cp:revision>
  <dc:subject/>
  <dc:title>PowerPoint 프레젠테이션</dc:title>
</cp:coreProperties>
</file>